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9B2-0FF9-4431-9CD2-E7C8542F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4B8-F51C-442D-8688-A23B0455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349-4416-4D89-9F58-9CD32E9A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442-B6ED-46B5-ACF7-B21A7E78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A91-2382-4A7B-B342-06955FE2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B62-46AA-46AE-A532-DDA276FF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76E-4DB2-4067-A475-CCF80D37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22C-B33D-42B3-8C3C-7CB06A39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4BB-B187-42FF-AFFE-C9A1510E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D79-E925-41AD-A081-5E5B4CE7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CD2-A740-4FBB-92E8-BFFBDBC5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52BA-1138-4DDB-8EE3-ADFBF561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EFC44-72DB-46C8-BCB5-D0AEB6BEA1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FDE04-BBC6-41BD-818D-08BC3E65B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71600" y="0"/>
            <a:ext cx="670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-932040" y="1538280"/>
            <a:ext cx="110080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-1465200" y="517680"/>
            <a:ext cx="1254744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57200" y="0"/>
            <a:ext cx="802656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6:48:03Z</dcterms:created>
  <dc:creator>IT User</dc:creator>
  <dc:description/>
  <dc:language>en-US</dc:language>
  <cp:lastModifiedBy>IT User</cp:lastModifiedBy>
  <dcterms:modified xsi:type="dcterms:W3CDTF">2011-05-10T17:19:37Z</dcterms:modified>
  <cp:revision>5</cp:revision>
  <dc:subject/>
  <dc:title>Slide 1</dc:title>
</cp:coreProperties>
</file>